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75C2631F-7545-4D40-864D-F9A638F56A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895320" y="752400"/>
            <a:ext cx="4951440" cy="371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2978280" y="554040"/>
            <a:ext cx="3644640" cy="2732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157400" y="681120"/>
            <a:ext cx="4541760" cy="3406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256068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          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- </a:t>
            </a:r>
            <a:fld id="{AA51A54C-B27B-4675-9FCF-180D0BD6D709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Tahoma"/>
              </a:rPr>
              <a:t> -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6. loeng: programmid protsesso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79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ayers in an integrated circu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Blue: silicon bu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d: polysilicon g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Yellow: metal 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2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 (Ec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Loe ja harjuta nende simulaatoriteg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math.hws.edu/TMCM/java/labs/xLogicCircuitsLab2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(A and (not B)) or (B and (not A)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6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7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älu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87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63460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480" indent="-294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560" indent="-2444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93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che ja mälu hierarhi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suhteliste kiirus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198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 flipH="1">
            <a:off x="6160680" y="43434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7303680" y="6172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359840" y="411480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7999560" y="571500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mälust loetakse/kirjutatakse 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ha, kust lugeda järgmine käsk, 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2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äskude täit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1320" indent="-30132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Lihtsal protsessoril on k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emine tsükke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isi-samm vastab mingile juhtmele voolu peale andmisele, mispeale käivitub vastav loogika-ahel prot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320" indent="-30132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sina taktsage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1320" indent="-249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ache salvestab erinevaid hiljuti kasutatud põhimälu juppe 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ure on minimeerida 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3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levaade loen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letame korraks meelde Turingi masin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Reaalne r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istva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iire meeldetuletus: riistvara põhi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aar sõna p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otsessori tööpõhimõt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ete 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älu hierar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grammeerimiskeelte hierarhia ja mehaanika (jätkub järgmine loeng)</a:t>
            </a:r>
            <a:r>
              <a:rPr b="0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asink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ssemb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55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 6502 oli kasutusel Apple II ja enamuse varaste koduarvutite protsessorina. Tal on üpris lihtsad käs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7000"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eie näiteprogramm: summeerime arve 1 ....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*argv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sum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ere!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0; i&lt;=n; i=i+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ma on %d\n",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4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MIPS-I (SGI spinoff) assembl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did registritesse $4 ja $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registrisse $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                 ; Register $4 on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3, 0       ; Register $3 on su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   $2, 0       ; Register $2 o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t  $4, $0, L3  ; Kui n&lt;0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u $3, $3, $2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u $2, $2, 1   ; i = i +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  $2, $4, L5  ; Kui i&lt;=n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move $2, $3      ; Sum sisaldab resultaa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r   $31         ; Mine aadressile registris $3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Sun Sparc’i  assemb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arc saadab argumendid registrites %o0 kuni %o7  ja resultaadi %o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ktsioon peale hüpet tehakse ala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                ; Register %o0 on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%o0,%g3     ; Salvesta n registrisse %g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o0     ; Register %o0 on nyyd s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o0,%g3     ; Kui 0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L3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 0,  %g2     ; ,aga enne i=0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 add %g2,1  ,%g2 ; i = i +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 %g2,%g3 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e,a L5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 %o0,%g2,%o0 ; ,aga enne sum = sum + 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 retl            ; Valmis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p                     ; ,aga enne ära tee midagi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59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Intel 386, 486, Pentium, 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86 on vähe registreid, argument saadetakse hariliku mälu kaudu. Resultaat saadetakse registris %edx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l %ebp         ; Loome ''framepointer’’-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vl  8(%ebp),%ecx ; Võta 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ax    ; Kui i&gt;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g L3              ; ... mine L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mpl  %ecx,%edx    ; Kui i&lt;=n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le L5             ; ... mine L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3:    leave              ; Taasta eb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                ; Valmi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6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mto ja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838080" y="762120"/>
            <a:ext cx="7848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Mil on 16 registrit r0, ..., r15, kuid osa neist on eritähendusega (näiteks, r15 on program coun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t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mt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1, #0 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MOV r6, #0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sum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mov r2, #0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i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</a:t>
            </a:r>
            <a:r>
              <a:rPr b="0" lang="et-E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dr r3, N           ; r3=N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; Load the first 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cmp r3, r2          ; eeldame r3=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gt finish          ; kui n&gt;i, mine fin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2, r2, #1      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= i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dd r1, r1, r2      ; sum = sum +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B loop              ; uus tsükke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inis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N      DCD  #1000          ; mälupesa N algväärtusega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914400" y="297000"/>
            <a:ext cx="7767720" cy="312480"/>
            <a:chOff x="914400" y="297000"/>
            <a:chExt cx="7767720" cy="312480"/>
          </a:xfrm>
        </p:grpSpPr>
        <p:sp>
          <p:nvSpPr>
            <p:cNvPr id="269" name="Line 4"/>
            <p:cNvSpPr/>
            <p:nvPr/>
          </p:nvSpPr>
          <p:spPr>
            <a:xfrm>
              <a:off x="914400" y="60300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 flipV="1">
              <a:off x="8682120" y="29700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me C kompi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tame eelmise 0 ... N summa näite C keeles ja vaatame, mida kompilaator te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274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38080" y="380880"/>
            <a:ext cx="7767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ileeri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d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programmi valmimine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käivi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457200" y="1217520"/>
            <a:ext cx="8224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(näiteks C keeles) failid main.c ja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gcc main.c swap.c -o minuprogra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(näiteks gcc) teeb järjest mitut eri as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pil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neist assemblerikeelsed ajutised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 teeb assemblerfailidest masinkood+sümbolinfo fail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nk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520" indent="-27000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kur otsib kokku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me saadud programmifaili minuprogram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ad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tsib lisaks vajalikud olemasolevad failid osa sümbolinfo seostamiseks päris koodi-viide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2652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ud kogum paigutatakse mällu, tehakse opsüsteemi infoblokk tema jaoks (protsess) ja kogum käivitatak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388800" y="247680"/>
            <a:ext cx="8717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ryant &amp; Hallaron course) Static 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04640" y="1143000"/>
            <a:ext cx="7772400" cy="1295280"/>
          </a:xfrm>
          <a:prstGeom prst="rect">
            <a:avLst/>
          </a:prstGeom>
          <a:noFill/>
          <a:ln cap="sq" w="9360">
            <a:solidFill>
              <a:srgbClr val="00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0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s are translated and linked using 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mpiler driv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gcc -O2 -g -o p main.c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.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666880" y="304020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057400" y="5097600"/>
            <a:ext cx="2971800" cy="36324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828800" y="3409920"/>
            <a:ext cx="175248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265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2669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main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3733920" y="3409920"/>
            <a:ext cx="1796760" cy="637560"/>
          </a:xfrm>
          <a:prstGeom prst="rect">
            <a:avLst/>
          </a:prstGeom>
          <a:solidFill>
            <a:srgbClr val="00ffff"/>
          </a:solidFill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254480" y="27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203720" y="441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swap.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414600" y="57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4659480" y="304020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2666880" y="4106880"/>
            <a:ext cx="180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4659480" y="410688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4659480" y="4716360"/>
            <a:ext cx="144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59320" y="5489640"/>
            <a:ext cx="1440" cy="38088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666880" y="4716360"/>
            <a:ext cx="1800" cy="38124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5683320" y="2719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ourc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621400" y="42642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Separately comp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4355640" y="5483160"/>
            <a:ext cx="45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ully linked executable objec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contains code and data for all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fined in main.c and swap.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609480" y="158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Static Linking and 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Group 2"/>
          <p:cNvGrpSpPr/>
          <p:nvPr/>
        </p:nvGrpSpPr>
        <p:grpSpPr>
          <a:xfrm>
            <a:off x="1695600" y="873000"/>
            <a:ext cx="5748840" cy="4907160"/>
            <a:chOff x="1695600" y="873000"/>
            <a:chExt cx="5748840" cy="4907160"/>
          </a:xfrm>
        </p:grpSpPr>
        <p:sp>
          <p:nvSpPr>
            <p:cNvPr id="300" name="Rectangle 3"/>
            <p:cNvSpPr/>
            <p:nvPr/>
          </p:nvSpPr>
          <p:spPr>
            <a:xfrm>
              <a:off x="1695600" y="873000"/>
              <a:ext cx="109332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709640" y="2279520"/>
              <a:ext cx="1062000" cy="5288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intf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258000" y="1482840"/>
              <a:ext cx="1062000" cy="68076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224316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V="1">
              <a:off x="2795760" y="1931760"/>
              <a:ext cx="436320" cy="593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2373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"/>
            <p:cNvSpPr/>
            <p:nvPr/>
          </p:nvSpPr>
          <p:spPr>
            <a:xfrm>
              <a:off x="2812320" y="2293920"/>
              <a:ext cx="4226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3691440" y="2168640"/>
              <a:ext cx="512640" cy="833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11"/>
            <p:cNvSpPr/>
            <p:nvPr/>
          </p:nvSpPr>
          <p:spPr>
            <a:xfrm>
              <a:off x="4209120" y="2778120"/>
              <a:ext cx="990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>
              <a:off x="4758480" y="3200400"/>
              <a:ext cx="0" cy="4460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4758480" y="4191120"/>
              <a:ext cx="0" cy="826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2776680" y="5022720"/>
              <a:ext cx="4341240" cy="7574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4148280" y="5175360"/>
              <a:ext cx="12366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6"/>
            <p:cNvSpPr/>
            <p:nvPr/>
          </p:nvSpPr>
          <p:spPr>
            <a:xfrm>
              <a:off x="5582520" y="907920"/>
              <a:ext cx="185544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7"/>
            <p:cNvSpPr/>
            <p:nvPr/>
          </p:nvSpPr>
          <p:spPr>
            <a:xfrm>
              <a:off x="6513480" y="1371600"/>
              <a:ext cx="0" cy="9032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8"/>
            <p:cNvSpPr/>
            <p:nvPr/>
          </p:nvSpPr>
          <p:spPr>
            <a:xfrm>
              <a:off x="6567840" y="1482840"/>
              <a:ext cx="6087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9"/>
            <p:cNvSpPr/>
            <p:nvPr/>
          </p:nvSpPr>
          <p:spPr>
            <a:xfrm>
              <a:off x="5572440" y="2298240"/>
              <a:ext cx="1872000" cy="49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lloWorld.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20"/>
            <p:cNvSpPr/>
            <p:nvPr/>
          </p:nvSpPr>
          <p:spPr>
            <a:xfrm flipH="1">
              <a:off x="5214240" y="2895480"/>
              <a:ext cx="766440" cy="141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4929480" y="4565520"/>
              <a:ext cx="1049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694320" y="3264840"/>
              <a:ext cx="2126520" cy="129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.Out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or name of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our command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aatame uuesti Turingi masina simulaato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ringi masina mälu on lint, mida loeb/kirjutab eraldi pe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ogramm on eraldi tabelis ridadena, mis kõik on kuju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&lt;current state&gt; &lt;current symbol&gt; &lt;new symbol&gt; &lt;direction&gt; &lt;new st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tp://morphett.info/turing/turing.ht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aalsetel arvutitel saab lugeda/kirjutada mälu suvalisest 8-ga jaguvast kohast minimaalselt 8 bitti (üks bait) korraga. Mõnel protsessoril saab lugeda ainult 32-ga jaguvast kohast 4 baiti korra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ke on protsessoril palju ning nad asuvad sellessamas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560" indent="-2750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2271240" y="-203760"/>
            <a:ext cx="4601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&lt;current state&gt; &lt;current symbol&gt; &lt;new symbol&gt; &lt;direction&gt; &lt;new state&gt;</a:t>
            </a:r>
            <a:r>
              <a:rPr b="0" lang="en-GB" sz="400" spc="-1" strike="noStrike">
                <a:solidFill>
                  <a:srgbClr val="ffffff"/>
                </a:solidFill>
                <a:latin typeface="Times New Roman"/>
              </a:rPr>
              <a:t>'.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6094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(CMU B&amp;H ..) Run-time Linking/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1374480" y="685800"/>
            <a:ext cx="109332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386000" y="2092320"/>
            <a:ext cx="106668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f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386000" y="3540240"/>
            <a:ext cx="106668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1919160" y="1184400"/>
            <a:ext cx="180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1919160" y="2631960"/>
            <a:ext cx="1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05380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055960" y="2819520"/>
            <a:ext cx="4226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2459160" y="4232160"/>
            <a:ext cx="1288800" cy="9082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3973320" y="2590920"/>
            <a:ext cx="999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4525920" y="3013200"/>
            <a:ext cx="1800" cy="30456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525920" y="4518000"/>
            <a:ext cx="1800" cy="635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995480" y="5140440"/>
            <a:ext cx="4343400" cy="7617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3365640" y="5292720"/>
            <a:ext cx="12366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6396120" y="1184400"/>
            <a:ext cx="1440" cy="9079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6454440" y="1295280"/>
            <a:ext cx="6087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17"/>
          <p:cNvSpPr/>
          <p:nvPr/>
        </p:nvSpPr>
        <p:spPr>
          <a:xfrm flipH="1">
            <a:off x="4894200" y="2435400"/>
            <a:ext cx="682560" cy="419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4599000" y="4606920"/>
            <a:ext cx="1049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6391440" y="2854440"/>
            <a:ext cx="25092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disk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up f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ht not need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1611000" y="4302000"/>
            <a:ext cx="1338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5581800" y="717480"/>
            <a:ext cx="185544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573520" y="2108520"/>
            <a:ext cx="1872000" cy="494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.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3694680" y="3268800"/>
            <a:ext cx="2126520" cy="1298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O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or name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command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äpu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66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Relee: mootoriga lüli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91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s releed? Näid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aliseerime lausearvutuse valemi   </a:t>
            </a:r>
            <a:r>
              <a:rPr b="0" lang="et-EE" sz="2000" spc="-1" strike="noStrike">
                <a:solidFill>
                  <a:srgbClr val="c00000"/>
                </a:solidFill>
                <a:latin typeface="Bitstream Vera Sans"/>
                <a:ea typeface="Times New Roman"/>
              </a:rPr>
              <a:t>Not (A &amp; B)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releedeg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8440"/>
            <a:ext cx="7769160" cy="311040"/>
            <a:chOff x="914400" y="298440"/>
            <a:chExt cx="7769160" cy="311040"/>
          </a:xfrm>
        </p:grpSpPr>
        <p:sp>
          <p:nvSpPr>
            <p:cNvPr id="118" name="Line 4"/>
            <p:cNvSpPr/>
            <p:nvPr/>
          </p:nvSpPr>
          <p:spPr>
            <a:xfrm>
              <a:off x="914400" y="60480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3560" y="298440"/>
              <a:ext cx="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" name="Straight Arrow Connector 39"/>
          <p:cNvCxnSpPr>
            <a:endCxn id="120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3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4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7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8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656280" y="5410080"/>
            <a:ext cx="79380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Keerukamaid asju, näiteks liitmist ja korrutamist, ehitatak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Tahoma"/>
              </a:rPr>
              <a:t>suure hulga lausearvutuse tehetena umbes samal mo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pon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38080" y="68580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 idee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istorid kui “katkestusmootoriga” lüli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 = (A and -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kestest komponentidest ehitatakse suuremaid, millest omakorda veel suurema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onendid on kui mustad kastid: teame nende väljundit vastava sisendi korral, aga enamasti mitte nende tehnilist si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38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3600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5246280" y="3184560"/>
            <a:ext cx="145404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4332960" y="1432080"/>
            <a:ext cx="2433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ogic gates: simple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49" name="Line 3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4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915120" y="1066680"/>
            <a:ext cx="7896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80496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kroprotsessori s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914400" y="301320"/>
            <a:ext cx="7767720" cy="304920"/>
            <a:chOff x="914400" y="301320"/>
            <a:chExt cx="7767720" cy="304920"/>
          </a:xfrm>
        </p:grpSpPr>
        <p:sp>
          <p:nvSpPr>
            <p:cNvPr id="156" name="Line 4"/>
            <p:cNvSpPr/>
            <p:nvPr/>
          </p:nvSpPr>
          <p:spPr>
            <a:xfrm>
              <a:off x="914400" y="60336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82120" y="301320"/>
              <a:ext cx="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5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0-11T18:17:20Z</dcterms:modified>
  <cp:revision>32</cp:revision>
  <dc:subject/>
  <dc:title>PowerPoint Presentation</dc:title>
</cp:coreProperties>
</file>